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0C5-8859-483C-B48C-4034EB11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8D2-1C3A-4B7F-9831-A74171F1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F5A-37EE-48DC-9CBF-37BFDF19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59D-595A-40C1-AA4E-F9AC102C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C6A-DF53-4B1E-BE4F-9C0A387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FA3-CCAA-413F-A340-22426507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F2F-517C-4367-85F9-D805A65C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456-8E88-4EBD-8647-E8319FEE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2D6-1D52-4B9A-B035-AAF8EFC1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ABF-1CC5-4555-8A35-C8FEC856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31C-1A65-4339-807B-5DCDDE11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3FC-FB92-4AC8-852E-0177957E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AFF6-42B1-4273-A599-3E09A9B9FF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IX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16668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οις∙ Γεγραπται, Ὁ οἰκος μου οἰκος προσευχης κληθ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ἀγω ἑωρακα, και μεμαρτυρηκα ὁτι οὑτος ἐστιν ὁ υἱο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ιστευων εἰς αὐτον οὐ κρινεται∙ ὁ δε μη πιστευων ἠδη κεκριται, ὁτι οὐ πεπιστευκεν εἰς το ὀνομα του μονογενους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nl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υἱου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ωαννης μεματυρηκεν τῃ ἀληθειᾳ∙ ταυτα λελαληκεν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ἡμεις πεπιστευκαμεν και ἐγνωκαμεν ὁτι συ εἶ ὁ ἁγιο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αὐτῳ∙ Ναι, κυριε, ἐγω πεπιστευκα ὁτι συ εἶ ὁ χριστος ὁ υἱος του θεου ὁ εἰς τον κοσμον ἐρχομε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1280" y="1666800"/>
            <a:ext cx="9144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δεις τον πατερα ἑωρακεν εἰ μη ὁ ὠν παρα του θεου, οὑτος ἑωρακεν τον πα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τοτε φανησεται το σημειον του υἱου του ἀνθρωπου ἐν οὐρανῳ, και ὀψον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rregular Future of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ρα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υἱον του ἀνθρωπου ἐρχομενον ἐπι των νεφελων του οὐρανου μετα δυναμεως και δοξης πολλης∙ οὑτως ἐσται ἡ παρουσια του υἱου του ἀνθρωπ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said, ‘Lord, look, here are two swords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 once his fame went out to the whole region of 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welve have heard his teaching and have seen his sacri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disciple has loved the holy ones in the seven chur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1280" y="16668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ἐργον μου τετελεκα, την πιστιν τετηρηκ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ο εἰσερχομενος εἰς τον κοσμον λεγει∙ Ἐλεος θελω και οὐ θυσ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ς δε ὁ Ἰησους εἰπεν∙ Αὑτη ἡ ἀσθενεια οὐκ ἐστιν προς θανατον ἀλλ’ ὑπερ της δοξης του θεου, και δοξασθησεται ὁ υἱος του θεου δι’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υν δε οὐπω βλεπομεν αὐτῳ τα παντα ὑποτεταγμε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πτα ἀδελφοι ἠσαν∙ και ὁ πρωτος ἐλαβεν γυναικα και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λεγει αὐτοις∙ Ποσους ἀρτους ἐχ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ετε ἰδετε. και γνοντες λεγουσιν, Πεν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280" y="1666800"/>
            <a:ext cx="91440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Ὃ ἠν ἀπ’ ἀρχης, ὃ ἀκηκοαμεν, ὃ πεπιστευκαμεν περι του λογου της ζωης, λελαληται ὑμιν ὑπο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οις, Ἀμην λεγω ὑμιν ὁτι ὑμεις οἱ ἀκολουθησαντες μοι, ὁτε ὁ υἱος του ἀνθρωπου ἐστιν ἐπι θρονου δοξης αὐτου, και ὑμεις ἐσεσθε ἐπι δωδεκα θρονους κρινοντες τας δωδεκα φυλας του Ἰσραη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four days and four nights he prayed in the desert and saw a thousand angels in the clou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dow’s son was healed/saved immediately by her fa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n Greeks have believed the report about his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second letter has been written teaching about patience, prayer, circumcision, immorality, and the feasts of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71680" y="1285920"/>
            <a:ext cx="7929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5.25-34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γυνὴ οὖσα ἐν ῥύσ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lo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ἵματος δώδεκα ἔτη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6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πολλὰ παθοῦσ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aor. act. part. f. s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σχ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uff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ὑπὸ πολλῶν ἰατρῶ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hysician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δαπανήσασ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απανα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e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ὰ παρ’ αὐτῆς πάντα καὶ μηδὲν ὠφεληθείσ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ὠφελε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ain, benefi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ὰ μᾶλλ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rather, instea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ὸ χεῖρ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ors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θοῦσα,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7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ἀκούσασα περὶ τοῦ Ἰησοῦ, ἐλθοῦσα ἐν τῷ ὄχλῳ ὄπισθ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rom behi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ἥψατο τοῦ ἱματίου αὐτοῦ∙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8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ἔλεγεν γὰρ ὅτι Ἐὰ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ἅψωμαι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might touch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ἂ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ven jus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ῶν ἱματίων αὐτοῦ σωθήσομαι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εὐθὺς ἐξηράνθη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ξηραιν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ry up, ceas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πηγὴ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ring, flo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ῦ αἵματος αὐτῆς καὶ ἔγνω τῷ σώματι ὅτι ἴατ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perf. pass.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αομ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hea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ὸ τῆς μάστιγ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iseas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0040" y="1571760"/>
            <a:ext cx="792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30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εὐθὺς ὁ Ἰησοῦς ἐπιγνοὺς ἐν ἑαυτῷ τὴν ἐξ αὐτοῦ δύναμιν ἐξελθοῦσαν ἐπιστραφεὶς ἐν τῷ ὄχλῳ ἔλεγεν, Τίς μου ἥψατο τῶν ἱματί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31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ἔλεγον αὐτῷ οἱ μαθηταὶ αὐτοῦ, Βλέπεις τὸν ὄχλον συνθλίβοντ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ess up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ε καὶ λέγεις, Τίς μου ἥψατο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2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περιεβλέπε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δεῖν τὴν τοῦτο ποιήσασα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ἡ δὲ γυνὴ φοβηθεῖσα καὶ τρέμουσ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ρεμ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remb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εἰδυῖ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know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ὃ γέγονεν αὐτῇ, ἦλθεν καὶ προσέπεσ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πιπτω] αὐτῷ καὶ εἶπεν αὐτῷ πᾶσαν τὴν ἀλήθεια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ὁ δὲ εἶπεν αὐτῇ, Θυγάτηρ, ἡ πίστις σου σέσωκέν σε∙ ὕπαγε εἰς εἰρήνην καὶ ἴσθ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pres. impera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sing.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γιὴ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alth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ὸ τῆς μάστιγός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3:32:13Z</dcterms:created>
  <dc:creator>Sarah</dc:creator>
  <dc:description/>
  <dc:language>en-US</dc:language>
  <cp:lastModifiedBy>Sarah</cp:lastModifiedBy>
  <dcterms:modified xsi:type="dcterms:W3CDTF">2009-03-02T18:59:44Z</dcterms:modified>
  <cp:revision>26</cp:revision>
  <dc:subject/>
  <dc:title>Slide 1</dc:title>
</cp:coreProperties>
</file>